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366E-0867-4C80-B7D6-27903C8B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4CF5-4043-4D92-A408-CAF5DEB4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99D-E1DC-40B5-96DC-2F859F87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13B-7547-4864-A699-C06AC0C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85C-3637-4981-AE44-38C9FAB0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41A-774A-4BA7-8E49-51611E19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92CE-77E4-4BA0-AA5E-A890C0F2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8543-0126-484A-B587-A1C6DECF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1318-B695-4DAE-9EDB-A69A2F18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31BB-22B1-4160-A025-9093796E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C686-0811-495B-9042-733B8D6F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95EF-F578-40AE-8DD8-A5E19AE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DA6A-384C-4ECE-84FE-051A593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734-436B-4E00-9FC5-08657D13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5FB7-C7C7-425A-8DF5-5CE498A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4F2-0EE1-46C4-B0EF-069A47D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7895-AA7E-492D-A653-BEB83A3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60B2-89AC-4006-A0C8-86FCC64E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95DD-1239-4F43-98A3-FA5E072A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3D46-2B14-4085-AE8A-0E1D2986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A382-9EB2-4DE2-8060-23370BC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6EB0-90E7-4683-B82D-D38742C2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C30B-0C35-4048-8789-95B53A56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1086-8A3C-4962-B347-21A03AD8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009-99F1-40AF-A4FD-FC7A0B4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357A-BABA-4F4E-AFDA-B2CD1AB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B541-39AE-4FA3-BFA1-A837A2D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6CDC-291C-4C33-800B-72E9504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54F3-00DB-480B-9D0F-C67FFA9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A985-F6DF-4CE8-A3D1-96368FB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F92C-ADB1-49F5-8A00-B678BDD0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D0B8-1A44-4EB7-9FF2-09DC3E2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4ED5-1333-41F5-B152-A0636225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8D21-3D9C-4506-B739-BCB987EC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1A08F-BF51-49F8-B6EE-88DB757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513-ED63-4874-9115-DC77501B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A024-0B09-458E-83DD-6F8C0659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0BA5-B569-4A9A-8D0D-D680B34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86E1-1624-4374-B780-9E22A2C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A825-A42C-4D32-A26C-50F7209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C629-F72C-4610-A2D1-15CB261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28B9-2A85-4BA8-BDAC-C3B62CC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131C-AC98-49BF-A100-5BB9521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C64B-453B-4B72-BE57-5DC086C7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0FB0-BE76-4377-BBA8-21E5578E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D82A9-01FF-4214-8608-8FA26C77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89A-FBBC-4E73-945A-9E61A280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BD71-0940-42AE-A621-F3E20257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BE9A-59E4-41E3-B9F3-FED01FF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D837-A74E-4EA3-98D1-8FC143BF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D26E-91F4-43EA-996B-F474C8B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0B2E-3EF6-48A2-A5A7-AE9B45BD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D722-B95C-4EC9-976E-6DFA4DC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3572-6656-4E8E-AB4E-7F910B3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E7ED7-4FE9-4FA0-B3D5-0917F09B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DC3B0-629B-407C-8531-C5140CB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6A0A-B3A0-4ECE-BC18-CB4716D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040-2696-4C50-AF04-1C9F02B5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ACB0-FB6A-41C4-A82B-22640B09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409-1D66-416B-9C0E-D2108CF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C11-8EF0-4CC9-9828-FEDE0C5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0E5-FF5E-4FAE-AD75-DB62768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3E6-CB4C-47BA-A92C-0A9F749681B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FAF1-B7CC-477D-B912-C6F8FACC44D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5506-836E-489D-87CF-5F70D0A4462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EC95-4C7F-41C0-92F7-71B161F1D6A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00D-E707-4B5B-870C-259EBC8AAE4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" Target="slide33.xml"/><Relationship Id="rId4" Type="http://schemas.openxmlformats.org/officeDocument/2006/relationships/slide" Target="slide41.xml"/><Relationship Id="rId5" Type="http://schemas.openxmlformats.org/officeDocument/2006/relationships/slide" Target="slide18.xml"/><Relationship Id="rId6" Type="http://schemas.openxmlformats.org/officeDocument/2006/relationships/slide" Target="slide26.xml"/><Relationship Id="rId7" Type="http://schemas.openxmlformats.org/officeDocument/2006/relationships/slide" Target="slide34.xml"/><Relationship Id="rId8" Type="http://schemas.openxmlformats.org/officeDocument/2006/relationships/slide" Target="slide42.xml"/><Relationship Id="rId9" Type="http://schemas.openxmlformats.org/officeDocument/2006/relationships/slide" Target="slide19.xml"/><Relationship Id="rId10" Type="http://schemas.openxmlformats.org/officeDocument/2006/relationships/slide" Target="slide27.xml"/><Relationship Id="rId11" Type="http://schemas.openxmlformats.org/officeDocument/2006/relationships/slide" Target="slide35.xml"/><Relationship Id="rId12" Type="http://schemas.openxmlformats.org/officeDocument/2006/relationships/slide" Target="slide43.xml"/><Relationship Id="rId13" Type="http://schemas.openxmlformats.org/officeDocument/2006/relationships/slide" Target="slide20.xml"/><Relationship Id="rId14" Type="http://schemas.openxmlformats.org/officeDocument/2006/relationships/slide" Target="slide28.xml"/><Relationship Id="rId15" Type="http://schemas.openxmlformats.org/officeDocument/2006/relationships/slide" Target="slide36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29.xml"/><Relationship Id="rId19" Type="http://schemas.openxmlformats.org/officeDocument/2006/relationships/slide" Target="slide37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how.com/about_4743574_different-kinds-computer-viruses.html" TargetMode="External"/><Relationship Id="rId3" Type="http://schemas.openxmlformats.org/officeDocument/2006/relationships/hyperlink" Target="http://www.microsoft.com/security/antivirus/whatis.aspx" TargetMode="External"/><Relationship Id="rId4" Type="http://schemas.openxmlformats.org/officeDocument/2006/relationships/hyperlink" Target="http://www.newton.dep.anl.gov/teachers/compvir.ht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20.png"/><Relationship Id="rId4" Type="http://schemas.openxmlformats.org/officeDocument/2006/relationships/image" Target="../media/image30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answers.com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webmd.com/mental-health/features/video-game-addiction-no-fun" TargetMode="External"/><Relationship Id="rId3" Type="http://schemas.openxmlformats.org/officeDocument/2006/relationships/hyperlink" Target="http://www.ocregister.com/news/game-208290-wow-addiction.html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60840" cy="2146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Romans: Destiny Tucker, Cire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Berry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, Emmett Mobley, Imani Hawkins, Armani Cart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ople who are addicted to games as a child don’t develop socially and never learn to play a s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Game addicts are males under 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arning signs of game addiction 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reasing amounts of time spent on g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tantly think about gaming while doing something el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games to escape real life probl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aling gam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eling irritable when trying to cut down on time spent gam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3794"/>
                </a:moveTo>
                <a:lnTo>
                  <a:pt x="18443" y="10800"/>
                </a:lnTo>
                <a:lnTo>
                  <a:pt x="443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nary numbers go by the power of 2. And everything in the computers are converted to 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, because there is only two states an electrical circuit can be in. it addresses the way the computer count different things 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on i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2578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44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ind the total of the true numbers for the binary i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easier to use the char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8   64   32   16   8   4   2   1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1     0     0    1    1   1  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number (true number) converted to Binary Numbers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9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5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1001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34340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 together the columns where the 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re to get deci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10080" y="464832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the largest binary number into the decim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886200" y="28954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335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6002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2133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25146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29718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7"/>
          <p:cNvSpPr/>
          <p:nvPr/>
        </p:nvSpPr>
        <p:spPr>
          <a:xfrm>
            <a:off x="3276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3581280" y="30481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9"/>
          <p:cNvSpPr/>
          <p:nvPr/>
        </p:nvSpPr>
        <p:spPr>
          <a:xfrm>
            <a:off x="4876920" y="4800600"/>
            <a:ext cx="53316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15">
            <a:hlinkClick r:id="" action="ppaction://hlinkshowjump?jump=nextslide"/>
          </p:cNvPr>
          <p:cNvSpPr/>
          <p:nvPr/>
        </p:nvSpPr>
        <p:spPr>
          <a:xfrm>
            <a:off x="693432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;Byt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byte is a unit of data that is eight binary digits long. A byte it’s a unit most computers use to represent  a letter, number, or symb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320"/>
          <a:ext cx="8229600" cy="6781680"/>
        </p:xfrm>
        <a:graphic>
          <a:graphicData uri="http://schemas.openxmlformats.org/drawingml/2006/table">
            <a:tbl>
              <a:tblPr/>
              <a:tblGrid>
                <a:gridCol w="1711440"/>
                <a:gridCol w="1630080"/>
                <a:gridCol w="1629000"/>
                <a:gridCol w="1630440"/>
                <a:gridCol w="1628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ru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ide the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Game Ad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nary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3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4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5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6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7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8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9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0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1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2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3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4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5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6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7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8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9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0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530280" y="-237960"/>
            <a:ext cx="8211960" cy="1487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2193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What is a virus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86000" y="25909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s a computer program that can multiply itself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 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and infect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s a computer program  that hacks your computer and then  fixes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s a computer program  that creates a lot of pop 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s a computer program that takes away all our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123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ich one is a form of a viru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33526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rojan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rojan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roj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____ we ar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Vulnerab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Egotistic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powerfu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virus is a computer program that can multiply itsel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fect a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is commonly used to refer to other types of malware, adware and spyware 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an spread from one computer to another in some type of code when its host is taken to the target computer; it could happen when a user sent it over a network or the Internet, or carried on a floppy disk, CD, DVD, or USB dr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 vulnerable we 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Forward or Next 3">
            <a:hlinkClick r:id="" action="ppaction://hlinkshowjump?jump=nextslide"/>
          </p:cNvPr>
          <p:cNvSpPr/>
          <p:nvPr/>
        </p:nvSpPr>
        <p:spPr>
          <a:xfrm>
            <a:off x="6553080" y="59436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way to protect yourself from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void unknown internet webs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Never double click a email attach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Use virus prote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Avoid random progra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609480" y="4730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a reason why people create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people like devas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Bragging righ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for the fun of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Test different computers weaknes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Title 3" descr=""/>
          <p:cNvPicPr/>
          <p:nvPr/>
        </p:nvPicPr>
        <p:blipFill>
          <a:blip r:embed="rId5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4" descr=""/>
          <p:cNvPicPr/>
          <p:nvPr/>
        </p:nvPicPr>
        <p:blipFill>
          <a:blip r:embed="rId1"/>
          <a:stretch/>
        </p:blipFill>
        <p:spPr>
          <a:xfrm>
            <a:off x="450720" y="-615960"/>
            <a:ext cx="8242560" cy="214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lundylog\AppData\Local\Microsoft\Windows\Temporary Internet Files\Content.IE5\BN3GBYYM\MC900433820[1].png"/>
          <p:cNvPicPr/>
          <p:nvPr/>
        </p:nvPicPr>
        <p:blipFill>
          <a:blip r:embed="rId2"/>
          <a:stretch/>
        </p:blipFill>
        <p:spPr>
          <a:xfrm>
            <a:off x="1447920" y="106668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299" name="Action Button: Home 4">
            <a:hlinkClick r:id="rId3" action="ppaction://hlinksldjump"/>
          </p:cNvPr>
          <p:cNvSpPr/>
          <p:nvPr/>
        </p:nvSpPr>
        <p:spPr>
          <a:xfrm>
            <a:off x="6629400" y="5638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12824" y="3837"/>
                </a:moveTo>
                <a:lnTo>
                  <a:pt x="15400" y="6448"/>
                </a:ln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lnTo>
                  <a:pt x="19787" y="10800"/>
                </a:lnTo>
                <a:lnTo>
                  <a:pt x="18133" y="10800"/>
                </a:lnTo>
                <a:lnTo>
                  <a:pt x="18133" y="17989"/>
                </a:lnTo>
                <a:lnTo>
                  <a:pt x="7515" y="17989"/>
                </a:lnTo>
                <a:lnTo>
                  <a:pt x="7515" y="10800"/>
                </a:lnTo>
                <a:lnTo>
                  <a:pt x="5861" y="10800"/>
                </a:lnTo>
                <a:close/>
              </a:path>
              <a:path fill="darkenLess" w="25648" h="21600">
                <a:moveTo>
                  <a:pt x="15400" y="6448"/>
                </a:move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close/>
              </a:path>
              <a:path fill="darkenLess" w="25648" h="21600">
                <a:moveTo>
                  <a:pt x="11902" y="14299"/>
                </a:moveTo>
                <a:lnTo>
                  <a:pt x="13747" y="14299"/>
                </a:lnTo>
                <a:lnTo>
                  <a:pt x="13747" y="17989"/>
                </a:lnTo>
                <a:lnTo>
                  <a:pt x="18133" y="17989"/>
                </a:lnTo>
                <a:lnTo>
                  <a:pt x="18133" y="10800"/>
                </a:lnTo>
                <a:lnTo>
                  <a:pt x="7515" y="10800"/>
                </a:lnTo>
                <a:lnTo>
                  <a:pt x="7515" y="17989"/>
                </a:lnTo>
                <a:lnTo>
                  <a:pt x="11902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5" descr=""/>
          <p:cNvPicPr/>
          <p:nvPr/>
        </p:nvPicPr>
        <p:blipFill>
          <a:blip r:embed="rId1"/>
          <a:stretch/>
        </p:blipFill>
        <p:spPr>
          <a:xfrm>
            <a:off x="298440" y="-920880"/>
            <a:ext cx="8242200" cy="283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lundylog\AppData\Local\Microsoft\Windows\Temporary Internet Files\Content.IE5\CINLLN2E\MC900433818[1].png"/>
          <p:cNvPicPr/>
          <p:nvPr/>
        </p:nvPicPr>
        <p:blipFill>
          <a:blip r:embed="rId2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lundylog\AppData\Local\Microsoft\Windows\Temporary Internet Files\Content.IE5\CINLLN2E\MC900433818[1].png"/>
          <p:cNvPicPr/>
          <p:nvPr/>
        </p:nvPicPr>
        <p:blipFill>
          <a:blip r:embed="rId3"/>
          <a:stretch/>
        </p:blipFill>
        <p:spPr>
          <a:xfrm>
            <a:off x="1828800" y="18288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0" y="4876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Back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ehow.com/about_4743574_different-kinds-computer-viruses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microsoft.com/security/antivirus/whatis.asp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http://www.newton.dep.anl.gov/teachers/compvir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216640" cy="209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does CPU stand for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09480" y="3657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Control Program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Contro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Central Processing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D) Computer U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8217000" cy="2090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asic function of the Video Car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66680" y="35812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Stores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Displays 2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Displays 2d and 3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-79200" y="225360"/>
            <a:ext cx="7711920" cy="11826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is the professional name for the “Heart of the Computer”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3526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Motherbo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Hard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Optical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36576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Steve Jo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Z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Bill Gat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9144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created the firs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7058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805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Optical drive uses light to receive information and a Hard drive stores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Optical Drive stores information and a Hard drive uses light to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They both use light to receiv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2120" y="2133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and Optical drive and a Hard dr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viruses- it travels as a attachment to email messages, and copies itself by automatically sending itself to random people in your conte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 horses- it’s a computer program which claims to do something but its really just damaging your computer secretl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m – is a small piece of software that uses computer networks and security holes to replicate itself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4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8137440" cy="1536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student\Local Settings\Temporary Internet Files\Content.IE5\9EES06XC\MC90043382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19051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5">
            <a:hlinkClick r:id="rId5" action="ppaction://hlinksldjump"/>
          </p:cNvPr>
          <p:cNvSpPr/>
          <p:nvPr/>
        </p:nvSpPr>
        <p:spPr>
          <a:xfrm>
            <a:off x="6095880" y="48006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12272" y="3837"/>
                </a:moveTo>
                <a:lnTo>
                  <a:pt x="14849" y="6448"/>
                </a:ln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lnTo>
                  <a:pt x="19235" y="10800"/>
                </a:lnTo>
                <a:lnTo>
                  <a:pt x="17582" y="10800"/>
                </a:lnTo>
                <a:lnTo>
                  <a:pt x="17582" y="17989"/>
                </a:lnTo>
                <a:lnTo>
                  <a:pt x="6963" y="17989"/>
                </a:lnTo>
                <a:lnTo>
                  <a:pt x="6963" y="10800"/>
                </a:lnTo>
                <a:lnTo>
                  <a:pt x="5309" y="10800"/>
                </a:lnTo>
                <a:close/>
              </a:path>
              <a:path fill="darkenLess" w="24545" h="21600">
                <a:moveTo>
                  <a:pt x="14849" y="6448"/>
                </a:move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close/>
              </a:path>
              <a:path fill="darkenLess" w="24545" h="21600">
                <a:moveTo>
                  <a:pt x="11350" y="14299"/>
                </a:moveTo>
                <a:lnTo>
                  <a:pt x="13195" y="14299"/>
                </a:lnTo>
                <a:lnTo>
                  <a:pt x="13195" y="17989"/>
                </a:lnTo>
                <a:lnTo>
                  <a:pt x="17582" y="17989"/>
                </a:lnTo>
                <a:lnTo>
                  <a:pt x="17582" y="10800"/>
                </a:lnTo>
                <a:lnTo>
                  <a:pt x="6963" y="10800"/>
                </a:lnTo>
                <a:lnTo>
                  <a:pt x="6963" y="17989"/>
                </a:lnTo>
                <a:lnTo>
                  <a:pt x="11350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42200" cy="282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student\Local Settings\Temporary Internet Files\Content.IE5\0U764WG3\MC900433818[1].png"/>
          <p:cNvPicPr/>
          <p:nvPr/>
        </p:nvPicPr>
        <p:blipFill>
          <a:blip r:embed="rId2"/>
          <a:stretch/>
        </p:blipFill>
        <p:spPr>
          <a:xfrm>
            <a:off x="236232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85800" y="5562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ack to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google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Inventors.about.c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www.answers.co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ow old are most addic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971800" y="3124080"/>
            <a:ext cx="5105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30 and 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10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y do people get addicted to games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743200" y="33336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like to play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Virtual Life becomes more appealing than re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are dating someone in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It is free and they feel that they need to take advantag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happens if someone is addicted to games as a chil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43200" y="29718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grow up to live a norm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hey don’t develop socially and never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don’t learn to play a sport, but they develop so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hey don’t develop socially, but they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does MMORPG stand for and what does WOW stand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Magically Multiplayer Offline Role-Playing God and World of Warmon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Magnificently Magically Online Role-Playing Game and Warcraft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Massively Multiplayer Online Role-Playing Game and World of Warcr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Massively Multiplayer Online Role-Playing Game and World of Wa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a warning sign of game addicti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Playing games when they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Only thinking about gaming when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Feeling great when cutting down on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Spending increasing amounts of time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8242560" cy="2584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tudent\Local Settings\Temporary Internet Files\Content.IE5\FM0DGQCO\MC900433820[1].png"/>
          <p:cNvPicPr/>
          <p:nvPr/>
        </p:nvPicPr>
        <p:blipFill>
          <a:blip r:embed="rId2"/>
          <a:stretch/>
        </p:blipFill>
        <p:spPr>
          <a:xfrm>
            <a:off x="15238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4">
            <a:hlinkClick r:id="rId3" action="ppaction://hlinksldjump"/>
          </p:cNvPr>
          <p:cNvSpPr/>
          <p:nvPr/>
        </p:nvSpPr>
        <p:spPr>
          <a:xfrm>
            <a:off x="6172200" y="4724280"/>
            <a:ext cx="1981080" cy="213372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133720"/>
              <a:gd name="textAreaBottom" fmla="*/ 2005560 h 213372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5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248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0" y="55627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Go Back and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5" descr="C:\Documents and Settings\student\Local Settings\Temporary Internet Files\Content.IE5\8323Y0WE\MC900433818[1].png"/>
          <p:cNvPicPr/>
          <p:nvPr/>
        </p:nvPicPr>
        <p:blipFill>
          <a:blip r:embed="rId3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472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programs and unknown sources( if don’t know what the program is don’t mess with it, just close out of i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virus protection such as anti virus software and virus sca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ver double click on email attachments( hit it once and wait, if nothing shows up, then hit again , if nothing, then assume your computer is acting slow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ction Button: Forward or Next 3">
            <a:hlinkClick r:id="" action="ppaction://hlinkshowjump?jump=nextslide"/>
          </p:cNvPr>
          <p:cNvSpPr/>
          <p:nvPr/>
        </p:nvSpPr>
        <p:spPr>
          <a:xfrm>
            <a:off x="647712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webmd.com/mental-health/features/video-game-addiction-no-f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ocregister.com/news/game-208290-wow-addiction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205840" cy="1481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power does binary numbers go b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47920" y="2971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</a:t>
            </a:r>
            <a:r>
              <a:rPr b="0" lang="en-US" sz="2800" spc="-1" strike="noStrike">
                <a:solidFill>
                  <a:srgbClr val="e3afd8"/>
                </a:solidFill>
                <a:latin typeface="Arial"/>
              </a:rPr>
              <a:t>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a byt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3880" y="33526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seven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some computers use to represent a letter, number, o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nine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8278920" cy="1463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10110100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3880" y="3352680"/>
            <a:ext cx="6705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00001111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inary number for 227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7175520" cy="2116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C:\Documents and Settings\student\Local Settings\Temporary Internet Files\Content.IE5\PM48CWES\MC900433820[1].png"/>
          <p:cNvPicPr/>
          <p:nvPr/>
        </p:nvPicPr>
        <p:blipFill>
          <a:blip r:embed="rId2"/>
          <a:stretch/>
        </p:blipFill>
        <p:spPr>
          <a:xfrm>
            <a:off x="2590920" y="24382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70" name="Action Button: Home 5"/>
          <p:cNvSpPr/>
          <p:nvPr/>
        </p:nvSpPr>
        <p:spPr>
          <a:xfrm>
            <a:off x="6477120" y="518148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5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5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559640" cy="2481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Documents and Settings\student\Local Settings\Temporary Internet Files\Content.IE5\PM48CWES\MC900433818[1].png"/>
          <p:cNvPicPr/>
          <p:nvPr/>
        </p:nvPicPr>
        <p:blipFill>
          <a:blip r:embed="rId2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0" y="57801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searchstorage.techtarget.com/sDefinition/0,,sid5_gci211721,00.html  (byt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SS;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uters and the Internet- Unit 2, Binary Numbers Information, Binary Number System Made Easy, Binary Numbers Ch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computer was created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Mother Board is basically called, “ The heart of the computer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M means random access mem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ll Gates created Microso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ction Button: Forward or Next 3">
            <a:hlinkClick r:id="" action="ppaction://hlinkshowjump?jump=nextslide"/>
          </p:cNvPr>
          <p:cNvSpPr/>
          <p:nvPr/>
        </p:nvSpPr>
        <p:spPr>
          <a:xfrm>
            <a:off x="64008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program was created by K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Drive- is a storage device that stores basic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- it sends instructions of programs to the scr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761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cal Drive- a type of storage device, but it uses light to store and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Supply- electric circuit that change to make the computer able to come 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Card- displays 2d and 3d imag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 stands for Central Processing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9343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 Addiction occurs when virtual life becomes more appealing than real life because a pers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different than they are in re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0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MORPG stand for Massively Multiplayer  Online Role-playing G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e of the biggest MMORPGs in the world is WOW or World of Warc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ction Button: Forward or Next 5">
            <a:hlinkClick r:id="" action="ppaction://hlinkshowjump?jump=nextslide"/>
          </p:cNvPr>
          <p:cNvSpPr/>
          <p:nvPr/>
        </p:nvSpPr>
        <p:spPr>
          <a:xfrm>
            <a:off x="67057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student</cp:lastModifiedBy>
  <dcterms:modified xsi:type="dcterms:W3CDTF">2010-11-05T18:17:55Z</dcterms:modified>
  <cp:revision>101</cp:revision>
  <dc:subject/>
  <dc:title>Topic 1</dc:title>
</cp:coreProperties>
</file>